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9.wmf" ContentType="image/x-wmf"/>
  <Override PartName="/ppt/media/image10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43D3-749A-4325-BF11-CD688194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85B5-939A-4C6A-A974-4CFC2BE4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BF80-47C3-481F-A257-6F217831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53D-89FC-444C-B208-67F2BE3A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D8F6-9A8A-452D-8F86-8231808C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6381-2FBB-4AD4-AA29-22160081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7A8A-91E1-4F42-9026-DD76B332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0E19-261C-4A2A-9B05-F3C4BA62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DDB1-3504-4054-91B5-EE65D423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9DBD-8836-4D38-927E-8EC69C5F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E0A4-08E6-47F1-B379-F55E9C25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6560-FA6F-4E00-9EFE-3186FF0C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EFFC-01BA-4653-813D-29ED573F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725A-BDDA-43BF-9DF3-57FED0CF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E63F-3B28-43CB-9127-84EF7C95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AD42-0B93-405A-ABE8-26EDC64B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0B0A-07F0-4181-8140-54D01C81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1B881-E610-4C8F-8403-5D7552B0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AD0DA-D48B-45CE-9DBB-6D6F841F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FB465-2EBF-4632-8334-7B3448F6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804FA-49B2-4E39-ACD5-E78949EA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7CEB5-EAFC-4A4D-98F7-288A934B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2B60-7734-4C70-AA53-E1432077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480EE-01CD-4585-BD5D-C3AD139F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9E7B5-DA7B-4910-9787-A96157FE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58B65-9501-4A01-A79D-FB19E4E5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68103-61A8-4814-9E32-6B0B6129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3EEA7-96D7-4E7D-BFD7-9FBDD25D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451AD-F84A-4B97-A9D4-EAEBCC02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CE055-BACA-40C1-9190-37E28B8C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2F16B-1E0F-4A7F-BE57-D3F857A1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E3EE2-B9A9-4802-A697-67A96738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67972-CC51-4287-8FCF-E99DE03F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92B3-E939-4D78-AC68-BBD52991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FBA00-9364-4277-8BFF-C22E5B78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8CC16-6A8C-425E-957D-CEE2A0CD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D4AEE-9B92-47DB-8C77-8639AC87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8FF9C-38A3-4DC6-A685-638DC049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BB985-E9DB-4CDD-B7C6-A2EFC821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D6CC8-2910-4B54-B71B-1510CD6D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40B34-7F46-4F03-9616-E094DF17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AFBAE-31E3-4E71-8301-E5661482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A671B-51BC-4CE3-9804-E66CB2DF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AFFD-A2C7-48B9-9435-14AA971A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4667-A158-4E8D-8C05-F1C3B19E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612-96BB-425A-986B-BDB11319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582A-F2C5-47DD-9A55-5658737C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A55-DB88-4D42-B179-3EE2C93C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9BE6-AF68-4DCB-B52A-D7257B0694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7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7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7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673E-1720-4ECB-B603-9F40D211C23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2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D48D-ADB5-4CEC-BB02-12DC1B0BC2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0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2141-2952-4F99-8CD6-973E38BEA6C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urning Poin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ndustrial Revolution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&amp;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extile Industry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AutoShape 3"/>
          <p:cNvSpPr/>
          <p:nvPr/>
        </p:nvSpPr>
        <p:spPr>
          <a:xfrm>
            <a:off x="228600" y="1981080"/>
            <a:ext cx="3657600" cy="1143000"/>
          </a:xfrm>
          <a:prstGeom prst="rightArrowCallout">
            <a:avLst>
              <a:gd name="adj1" fmla="val 25002"/>
              <a:gd name="adj2" fmla="val 25000"/>
              <a:gd name="adj3" fmla="val 53333"/>
              <a:gd name="adj4" fmla="val 6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lying Shutt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(Kay) 17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3962520" y="1981080"/>
            <a:ext cx="3657600" cy="1143000"/>
          </a:xfrm>
          <a:prstGeom prst="rightArrowCallout">
            <a:avLst>
              <a:gd name="adj1" fmla="val 25002"/>
              <a:gd name="adj2" fmla="val 25000"/>
              <a:gd name="adj3" fmla="val 53333"/>
              <a:gd name="adj4" fmla="val 6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pinning Jen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(Hargreaves) 17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/>
          <p:cNvSpPr/>
          <p:nvPr/>
        </p:nvSpPr>
        <p:spPr>
          <a:xfrm rot="5400000">
            <a:off x="6438240" y="3314520"/>
            <a:ext cx="3657600" cy="1143000"/>
          </a:xfrm>
          <a:prstGeom prst="rightArrowCallout">
            <a:avLst>
              <a:gd name="adj1" fmla="val 25002"/>
              <a:gd name="adj2" fmla="val 25000"/>
              <a:gd name="adj3" fmla="val 53333"/>
              <a:gd name="adj4" fmla="val 6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ater-Pow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Loom – Cartw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78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4267080" y="5181480"/>
            <a:ext cx="3429000" cy="1371600"/>
          </a:xfrm>
          <a:prstGeom prst="leftArrowCallout">
            <a:avLst>
              <a:gd name="adj1" fmla="val 25002"/>
              <a:gd name="adj2" fmla="val 25000"/>
              <a:gd name="adj3" fmla="val 41667"/>
              <a:gd name="adj4" fmla="val 6667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Need More Co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793 Eli Whitney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tton 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0" y="5105520"/>
            <a:ext cx="4038480" cy="1447560"/>
          </a:xfrm>
          <a:prstGeom prst="leftArrowCallout">
            <a:avLst>
              <a:gd name="adj1" fmla="val 25002"/>
              <a:gd name="adj2" fmla="val 25000"/>
              <a:gd name="adj3" fmla="val 46498"/>
              <a:gd name="adj4" fmla="val 6667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India’s Market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Not Keep Up – 184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uy from Ame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WordArt 8"/>
          <p:cNvSpPr txBox="1"/>
          <p:nvPr/>
        </p:nvSpPr>
        <p:spPr>
          <a:xfrm>
            <a:off x="457200" y="3733920"/>
            <a:ext cx="70293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ed to Clothe the New Numbers of Naked People</a:t>
            </a:r>
            <a:endParaRPr b="0" lang="en-US" sz="2800" spc="1" strike="noStrike">
              <a:ln w="0">
                <a:noFill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Scramble for Africa"/>
          <p:cNvPicPr/>
          <p:nvPr/>
        </p:nvPicPr>
        <p:blipFill>
          <a:blip r:embed="rId1"/>
          <a:stretch/>
        </p:blipFill>
        <p:spPr>
          <a:xfrm>
            <a:off x="1905120" y="3471840"/>
            <a:ext cx="5495760" cy="33861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457200" y="156960"/>
            <a:ext cx="2607840" cy="126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America uses more slaves to keep up with labor demands</a:t>
            </a: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4876920" y="228600"/>
            <a:ext cx="3733560" cy="1112760"/>
          </a:xfrm>
          <a:prstGeom prst="rightArrowCallout">
            <a:avLst>
              <a:gd name="adj1" fmla="val 25002"/>
              <a:gd name="adj2" fmla="val 25000"/>
              <a:gd name="adj3" fmla="val 55920"/>
              <a:gd name="adj4" fmla="val 6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66"/>
                </a:solidFill>
                <a:latin typeface="Arial"/>
              </a:rPr>
              <a:t>America has civil war over abuse of slav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4495680" y="1752480"/>
            <a:ext cx="4267440" cy="1600200"/>
          </a:xfrm>
          <a:prstGeom prst="leftArrowCallout">
            <a:avLst>
              <a:gd name="adj1" fmla="val 25002"/>
              <a:gd name="adj2" fmla="val 25000"/>
              <a:gd name="adj3" fmla="val 44447"/>
              <a:gd name="adj4" fmla="val 7418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Europe can not get cot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uring civil war tu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o Africa (Egy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6"/>
          <p:cNvSpPr/>
          <p:nvPr/>
        </p:nvSpPr>
        <p:spPr>
          <a:xfrm>
            <a:off x="228600" y="1828800"/>
            <a:ext cx="4191120" cy="1447920"/>
          </a:xfrm>
          <a:prstGeom prst="leftArrowCallout">
            <a:avLst>
              <a:gd name="adj1" fmla="val 25002"/>
              <a:gd name="adj2" fmla="val 25000"/>
              <a:gd name="adj3" fmla="val 48243"/>
              <a:gd name="adj4" fmla="val 6667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cramble for Africa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Divide up Con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 18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303" name="Content Placeholder 54274"/>
          <p:cNvGrpSpPr/>
          <p:nvPr/>
        </p:nvGrpSpPr>
        <p:grpSpPr>
          <a:xfrm>
            <a:off x="186480" y="1656360"/>
            <a:ext cx="8401680" cy="4476240"/>
            <a:chOff x="186480" y="1656360"/>
            <a:chExt cx="8401680" cy="4476240"/>
          </a:xfrm>
        </p:grpSpPr>
        <p:cxnSp>
          <p:nvCxnSpPr>
            <p:cNvPr id="304" name="_s2052"/>
            <p:cNvCxnSpPr>
              <a:stCxn id="305" idx="1"/>
              <a:endCxn id="306" idx="2"/>
            </p:cNvCxnSpPr>
            <p:nvPr/>
          </p:nvCxnSpPr>
          <p:spPr>
            <a:xfrm rot="10800000">
              <a:off x="4408200" y="5044680"/>
              <a:ext cx="315000" cy="6249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07" name="_s2053"/>
            <p:cNvCxnSpPr>
              <a:stCxn id="306" idx="1"/>
              <a:endCxn id="308" idx="2"/>
            </p:cNvCxnSpPr>
            <p:nvPr/>
          </p:nvCxnSpPr>
          <p:spPr>
            <a:xfrm rot="10800000">
              <a:off x="2033280" y="4157280"/>
              <a:ext cx="316800" cy="5259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09" name="_s2054"/>
            <p:cNvCxnSpPr>
              <a:stCxn id="308" idx="0"/>
              <a:endCxn id="310" idx="2"/>
            </p:cNvCxnSpPr>
            <p:nvPr/>
          </p:nvCxnSpPr>
          <p:spPr>
            <a:xfrm flipH="1" flipV="1" rot="5400000">
              <a:off x="3129120" y="2247120"/>
              <a:ext cx="162720" cy="2353680"/>
            </a:xfrm>
            <a:prstGeom prst="bentConnector3">
              <a:avLst>
                <a:gd name="adj1" fmla="val 4988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11" name="_s2055"/>
            <p:cNvCxnSpPr>
              <a:stCxn id="310" idx="0"/>
              <a:endCxn id="312" idx="2"/>
            </p:cNvCxnSpPr>
            <p:nvPr/>
          </p:nvCxnSpPr>
          <p:spPr>
            <a:xfrm flipV="1">
              <a:off x="4386960" y="2240280"/>
              <a:ext cx="2880" cy="1612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12" name="_s2056"/>
            <p:cNvSpPr/>
            <p:nvPr/>
          </p:nvSpPr>
          <p:spPr>
            <a:xfrm>
              <a:off x="2491200" y="1656360"/>
              <a:ext cx="3791880" cy="58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23400" bIns="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Water Power Limited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_s2057"/>
            <p:cNvSpPr/>
            <p:nvPr/>
          </p:nvSpPr>
          <p:spPr>
            <a:xfrm>
              <a:off x="3328200" y="2402640"/>
              <a:ext cx="2117880" cy="940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23400" bIns="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Turn to Coal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&amp; Steam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_s2058"/>
            <p:cNvSpPr/>
            <p:nvPr/>
          </p:nvSpPr>
          <p:spPr>
            <a:xfrm>
              <a:off x="186480" y="3505320"/>
              <a:ext cx="3695040" cy="652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James Wat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eam Engine 176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_s2059"/>
            <p:cNvSpPr/>
            <p:nvPr/>
          </p:nvSpPr>
          <p:spPr>
            <a:xfrm>
              <a:off x="2350440" y="4320000"/>
              <a:ext cx="4112640" cy="72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814 Steam Powered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rain to get more co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2060"/>
            <p:cNvSpPr/>
            <p:nvPr/>
          </p:nvSpPr>
          <p:spPr>
            <a:xfrm>
              <a:off x="4723560" y="5206680"/>
              <a:ext cx="3864600" cy="925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rbanization –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t have to be along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ivers any mor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Oval 2"/>
          <p:cNvSpPr/>
          <p:nvPr/>
        </p:nvSpPr>
        <p:spPr>
          <a:xfrm>
            <a:off x="3505320" y="1600200"/>
            <a:ext cx="2438280" cy="2286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1409760" y="3809880"/>
            <a:ext cx="2095560" cy="457200"/>
          </a:xfrm>
          <a:prstGeom prst="borderCallout1">
            <a:avLst>
              <a:gd name="adj1" fmla="val 18750"/>
              <a:gd name="adj2" fmla="val -8333"/>
              <a:gd name="adj3" fmla="val -16666"/>
              <a:gd name="adj4" fmla="val 12545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ial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"/>
          <p:cNvSpPr/>
          <p:nvPr/>
        </p:nvSpPr>
        <p:spPr>
          <a:xfrm>
            <a:off x="1752480" y="4952880"/>
            <a:ext cx="1295640" cy="60984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76720" y="5867280"/>
            <a:ext cx="914400" cy="60984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380880" y="5715000"/>
            <a:ext cx="1219320" cy="91440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eur discovers g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7"/>
          <p:cNvSpPr/>
          <p:nvPr/>
        </p:nvSpPr>
        <p:spPr>
          <a:xfrm>
            <a:off x="6781680" y="800280"/>
            <a:ext cx="1600200" cy="1180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29" y="20206"/>
                </a:moveTo>
                <a:lnTo>
                  <a:pt x="-1029" y="2090"/>
                </a:lnTo>
              </a:path>
              <a:path w="21600" h="21600">
                <a:moveTo>
                  <a:pt x="-1029" y="0"/>
                </a:moveTo>
                <a:lnTo>
                  <a:pt x="-1029" y="21600"/>
                </a:lnTo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Labor Fo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ldren &amp;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7086600" y="2743200"/>
            <a:ext cx="914400" cy="60948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 U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6019920" y="3809880"/>
            <a:ext cx="990360" cy="60984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y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0"/>
          <p:cNvSpPr/>
          <p:nvPr/>
        </p:nvSpPr>
        <p:spPr>
          <a:xfrm>
            <a:off x="4495680" y="533520"/>
            <a:ext cx="1600200" cy="60948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inism (suffr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1"/>
          <p:cNvSpPr/>
          <p:nvPr/>
        </p:nvSpPr>
        <p:spPr>
          <a:xfrm>
            <a:off x="6553080" y="5181480"/>
            <a:ext cx="1447920" cy="106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737" y="-64800"/>
                </a:moveTo>
                <a:lnTo>
                  <a:pt x="22737" y="2314"/>
                </a:lnTo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les Dickens/ Karl Ma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2"/>
          <p:cNvSpPr/>
          <p:nvPr/>
        </p:nvSpPr>
        <p:spPr>
          <a:xfrm flipH="1">
            <a:off x="4572000" y="4952880"/>
            <a:ext cx="1447920" cy="838440"/>
          </a:xfr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48 Rev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een Revolution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nge in Plant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3434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40s – India and Me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uses:  Bengal Famine (1943) – 4 million people died (cash crop economies), not enough food to feed increasing pop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s:  new technology (irrigation systems, cloning, genetically modified foods, herbicides, pesticides), increased food outputs; lower bio-diversity, shifting w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tcol"/>
          <p:cNvPicPr/>
          <p:nvPr/>
        </p:nvPicPr>
        <p:blipFill>
          <a:blip r:embed="rId1"/>
          <a:stretch/>
        </p:blipFill>
        <p:spPr>
          <a:xfrm>
            <a:off x="4724280" y="2362320"/>
            <a:ext cx="441972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olitical Revolution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73152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Glorious Revolution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hange from somewhat absolutism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stitutional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monarchy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88 –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:  monarchs becoming increasingly absolutist despit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gna Car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215)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lia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ntrolled ta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70040" indent="-228960">
              <a:lnSpc>
                <a:spcPct val="80000"/>
              </a:lnSpc>
              <a:spcBef>
                <a:spcPts val="374"/>
              </a:spcBef>
              <a:buClr>
                <a:srgbClr val="cccc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ames I thought he ruled by divine righ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770040" indent="-228960">
              <a:lnSpc>
                <a:spcPct val="80000"/>
              </a:lnSpc>
              <a:spcBef>
                <a:spcPts val="374"/>
              </a:spcBef>
              <a:buClr>
                <a:srgbClr val="cccc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harles I disbanded Parliament after agreeing to “Petition of Rights” to get money and then ripping it up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770040" indent="-228960">
              <a:lnSpc>
                <a:spcPct val="80000"/>
              </a:lnSpc>
              <a:spcBef>
                <a:spcPts val="374"/>
              </a:spcBef>
              <a:buClr>
                <a:srgbClr val="cccc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ivil war – King vs. Parliament (headed by Oliver Cromwell) – Charles I beheaded, Cromwell creates commonweal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770040" indent="-228960">
              <a:lnSpc>
                <a:spcPct val="80000"/>
              </a:lnSpc>
              <a:spcBef>
                <a:spcPts val="374"/>
              </a:spcBef>
              <a:buClr>
                <a:srgbClr val="cccc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harles II restored to power – no hei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II new monarch – but Catholic – protestant Parliament refuse to recognize James II’s son as heir – he disbands parlia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liament asks William and Mary of Orange to take over government, James II flees (bloodless c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 William and Mary grant parliament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glish Bill of Righ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French Revolution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Change from absolutism to constitutional monarchy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32" name="Picture 4" descr="liberty"/>
          <p:cNvPicPr/>
          <p:nvPr/>
        </p:nvPicPr>
        <p:blipFill>
          <a:blip r:embed="rId1"/>
          <a:stretch/>
        </p:blipFill>
        <p:spPr>
          <a:xfrm>
            <a:off x="3962520" y="2057400"/>
            <a:ext cx="4410000" cy="34606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6"/>
          <p:cNvSpPr/>
          <p:nvPr/>
        </p:nvSpPr>
        <p:spPr>
          <a:xfrm>
            <a:off x="685800" y="2133720"/>
            <a:ext cx="32767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89-17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:  absolutism of Louis XVI;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merican and English 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, enlightened philosophers, economic disaster (wars, Palace of Versailles), Estates General disbanded (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ate – all tax, no repres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766320" y="3059280"/>
            <a:ext cx="1760400" cy="13651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Pattern o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Revolu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36" name="Object 4"/>
          <p:cNvGraphicFramePr/>
          <p:nvPr/>
        </p:nvGraphicFramePr>
        <p:xfrm>
          <a:off x="825480" y="3848040"/>
          <a:ext cx="1981080" cy="15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3848040"/>
                    <a:ext cx="198108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8" name="Group 5"/>
          <p:cNvGrpSpPr/>
          <p:nvPr/>
        </p:nvGrpSpPr>
        <p:grpSpPr>
          <a:xfrm>
            <a:off x="1447920" y="914400"/>
            <a:ext cx="5790240" cy="5180760"/>
            <a:chOff x="1447920" y="914400"/>
            <a:chExt cx="5790240" cy="5180760"/>
          </a:xfrm>
        </p:grpSpPr>
        <p:sp>
          <p:nvSpPr>
            <p:cNvPr id="339" name="AutoShape 6"/>
            <p:cNvSpPr/>
            <p:nvPr/>
          </p:nvSpPr>
          <p:spPr>
            <a:xfrm flipH="1">
              <a:off x="1447920" y="914400"/>
              <a:ext cx="5790240" cy="5180760"/>
            </a:xfrm>
            <a:custGeom>
              <a:avLst/>
              <a:gdLst>
                <a:gd name="textAreaLeft" fmla="*/ 849600 w 5790240"/>
                <a:gd name="textAreaRight" fmla="*/ 4940640 w 5790240"/>
                <a:gd name="textAreaTop" fmla="*/ 760320 h 5180760"/>
                <a:gd name="textAreaBottom" fmla="*/ 4420440 h 518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99" y="2700"/>
                  </a:moveTo>
                  <a:cubicBezTo>
                    <a:pt x="8207" y="2700"/>
                    <a:pt x="5771" y="3941"/>
                    <a:pt x="4246" y="6038"/>
                  </a:cubicBezTo>
                  <a:lnTo>
                    <a:pt x="2062" y="4451"/>
                  </a:lnTo>
                  <a:cubicBezTo>
                    <a:pt x="4094" y="1655"/>
                    <a:pt x="7342" y="0"/>
                    <a:pt x="10799" y="0"/>
                  </a:cubicBezTo>
                  <a:lnTo>
                    <a:pt x="10799" y="-2700"/>
                  </a:lnTo>
                  <a:lnTo>
                    <a:pt x="14849" y="1350"/>
                  </a:lnTo>
                  <a:lnTo>
                    <a:pt x="10799" y="5400"/>
                  </a:lnTo>
                  <a:lnTo>
                    <a:pt x="10799" y="27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7"/>
            <p:cNvSpPr/>
            <p:nvPr/>
          </p:nvSpPr>
          <p:spPr>
            <a:xfrm flipH="1">
              <a:off x="1447920" y="914400"/>
              <a:ext cx="5790240" cy="5180760"/>
            </a:xfrm>
            <a:custGeom>
              <a:avLst/>
              <a:gdLst>
                <a:gd name="textAreaLeft" fmla="*/ 849600 w 5790240"/>
                <a:gd name="textAreaRight" fmla="*/ 4940640 w 5790240"/>
                <a:gd name="textAreaTop" fmla="*/ 760320 h 5180760"/>
                <a:gd name="textAreaBottom" fmla="*/ 4420440 h 518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00" y="10800"/>
                  </a:moveTo>
                  <a:cubicBezTo>
                    <a:pt x="2700" y="13392"/>
                    <a:pt x="3941" y="15828"/>
                    <a:pt x="6038" y="17353"/>
                  </a:cubicBezTo>
                  <a:lnTo>
                    <a:pt x="4451" y="19537"/>
                  </a:lnTo>
                  <a:cubicBezTo>
                    <a:pt x="1655" y="17505"/>
                    <a:pt x="0" y="14257"/>
                    <a:pt x="0" y="10800"/>
                  </a:cubicBezTo>
                  <a:lnTo>
                    <a:pt x="-2700" y="10800"/>
                  </a:lnTo>
                  <a:lnTo>
                    <a:pt x="1350" y="6750"/>
                  </a:lnTo>
                  <a:lnTo>
                    <a:pt x="5400" y="10800"/>
                  </a:lnTo>
                  <a:lnTo>
                    <a:pt x="2700" y="108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8"/>
            <p:cNvSpPr/>
            <p:nvPr/>
          </p:nvSpPr>
          <p:spPr>
            <a:xfrm flipH="1">
              <a:off x="1447920" y="914400"/>
              <a:ext cx="5790240" cy="5180760"/>
            </a:xfrm>
            <a:custGeom>
              <a:avLst/>
              <a:gdLst>
                <a:gd name="textAreaLeft" fmla="*/ 849600 w 5790240"/>
                <a:gd name="textAreaRight" fmla="*/ 4940640 w 5790240"/>
                <a:gd name="textAreaTop" fmla="*/ 760320 h 5180760"/>
                <a:gd name="textAreaBottom" fmla="*/ 4420440 h 518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18900"/>
                  </a:moveTo>
                  <a:cubicBezTo>
                    <a:pt x="13392" y="18899"/>
                    <a:pt x="15828" y="17658"/>
                    <a:pt x="17353" y="15561"/>
                  </a:cubicBezTo>
                  <a:lnTo>
                    <a:pt x="19537" y="17148"/>
                  </a:lnTo>
                  <a:cubicBezTo>
                    <a:pt x="17505" y="19944"/>
                    <a:pt x="14257" y="21599"/>
                    <a:pt x="10800" y="21600"/>
                  </a:cubicBezTo>
                  <a:lnTo>
                    <a:pt x="10800" y="24300"/>
                  </a:lnTo>
                  <a:lnTo>
                    <a:pt x="6750" y="20250"/>
                  </a:lnTo>
                  <a:lnTo>
                    <a:pt x="10800" y="16200"/>
                  </a:lnTo>
                  <a:lnTo>
                    <a:pt x="10800" y="189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9"/>
            <p:cNvSpPr/>
            <p:nvPr/>
          </p:nvSpPr>
          <p:spPr>
            <a:xfrm flipH="1">
              <a:off x="1447920" y="914400"/>
              <a:ext cx="5790240" cy="5180760"/>
            </a:xfrm>
            <a:custGeom>
              <a:avLst/>
              <a:gdLst>
                <a:gd name="textAreaLeft" fmla="*/ 849600 w 5790240"/>
                <a:gd name="textAreaRight" fmla="*/ 4940640 w 5790240"/>
                <a:gd name="textAreaTop" fmla="*/ 760320 h 5180760"/>
                <a:gd name="textAreaBottom" fmla="*/ 4420440 h 518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900" y="10800"/>
                  </a:moveTo>
                  <a:cubicBezTo>
                    <a:pt x="18900" y="8207"/>
                    <a:pt x="17658" y="5771"/>
                    <a:pt x="15561" y="4246"/>
                  </a:cubicBezTo>
                  <a:lnTo>
                    <a:pt x="17148" y="2062"/>
                  </a:lnTo>
                  <a:cubicBezTo>
                    <a:pt x="19944" y="4094"/>
                    <a:pt x="21599" y="7342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20250" y="14850"/>
                  </a:lnTo>
                  <a:lnTo>
                    <a:pt x="16200" y="10800"/>
                  </a:lnTo>
                  <a:lnTo>
                    <a:pt x="18900" y="108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0"/>
            <p:cNvSpPr/>
            <p:nvPr/>
          </p:nvSpPr>
          <p:spPr>
            <a:xfrm rot="1343400">
              <a:off x="5207400" y="1125360"/>
              <a:ext cx="1854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1"/>
            <p:cNvSpPr/>
            <p:nvPr/>
          </p:nvSpPr>
          <p:spPr>
            <a:xfrm rot="17802600">
              <a:off x="1731600" y="2434320"/>
              <a:ext cx="398160" cy="1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0" bIns="4284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2"/>
            <p:cNvSpPr/>
            <p:nvPr/>
          </p:nvSpPr>
          <p:spPr>
            <a:xfrm rot="1755600">
              <a:off x="3169800" y="5180040"/>
              <a:ext cx="184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3"/>
            <p:cNvSpPr/>
            <p:nvPr/>
          </p:nvSpPr>
          <p:spPr>
            <a:xfrm rot="17838600">
              <a:off x="6261480" y="4428000"/>
              <a:ext cx="3974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WordArt 14"/>
          <p:cNvSpPr txBox="1"/>
          <p:nvPr/>
        </p:nvSpPr>
        <p:spPr>
          <a:xfrm>
            <a:off x="2819520" y="5181480"/>
            <a:ext cx="2352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.  Moder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8" name="WordArt 15"/>
          <p:cNvSpPr txBox="1"/>
          <p:nvPr/>
        </p:nvSpPr>
        <p:spPr>
          <a:xfrm>
            <a:off x="6324480" y="3886200"/>
            <a:ext cx="2352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.  Rad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9" name="WordArt 16"/>
          <p:cNvSpPr txBox="1"/>
          <p:nvPr/>
        </p:nvSpPr>
        <p:spPr>
          <a:xfrm>
            <a:off x="3809880" y="838080"/>
            <a:ext cx="2352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.  Moder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0" name="WordArt 17"/>
          <p:cNvSpPr txBox="1"/>
          <p:nvPr/>
        </p:nvSpPr>
        <p:spPr>
          <a:xfrm>
            <a:off x="838080" y="2362320"/>
            <a:ext cx="2352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.  Lea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1" name="AutoShape 18"/>
          <p:cNvSpPr/>
          <p:nvPr/>
        </p:nvSpPr>
        <p:spPr>
          <a:xfrm>
            <a:off x="0" y="5181480"/>
            <a:ext cx="2362320" cy="1371600"/>
          </a:xfrm>
          <a:prstGeom prst="wedgeRoundRectCallout">
            <a:avLst>
              <a:gd name="adj1" fmla="val 71236"/>
              <a:gd name="adj2" fmla="val -26620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nis Court Oath, Declaration of Rights of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9"/>
          <p:cNvSpPr/>
          <p:nvPr/>
        </p:nvSpPr>
        <p:spPr>
          <a:xfrm>
            <a:off x="5943600" y="5105520"/>
            <a:ext cx="2514600" cy="1447560"/>
          </a:xfrm>
          <a:prstGeom prst="wedgeRoundRectCallout">
            <a:avLst>
              <a:gd name="adj1" fmla="val -9407"/>
              <a:gd name="adj2" fmla="val -85745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gn of Terror, Committee of Public Safety, Robespierre, guillo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0"/>
          <p:cNvSpPr/>
          <p:nvPr/>
        </p:nvSpPr>
        <p:spPr>
          <a:xfrm>
            <a:off x="6477120" y="228600"/>
            <a:ext cx="2361960" cy="990720"/>
          </a:xfrm>
          <a:prstGeom prst="wedgeRoundRectCallout">
            <a:avLst>
              <a:gd name="adj1" fmla="val -75203"/>
              <a:gd name="adj2" fmla="val 14745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1"/>
          <p:cNvSpPr/>
          <p:nvPr/>
        </p:nvSpPr>
        <p:spPr>
          <a:xfrm>
            <a:off x="228600" y="152280"/>
            <a:ext cx="2362320" cy="1371600"/>
          </a:xfrm>
          <a:prstGeom prst="wedgeRoundRectCallout">
            <a:avLst>
              <a:gd name="adj1" fmla="val 15791"/>
              <a:gd name="adj2" fmla="val 101157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poleon Bona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Agricultural Revolution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hange – Hunting-Gathering to Farm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,000 BC – 5000 B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River Civilizations (Fertile Cresc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:  glacial melt (wooly mammoth die), need steady food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:  settle along rivers (silt, irrigation), increased populations, govt., new technology (new stone tools), religious buildings (ziggurats), wheels (pott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riv-vall"/>
          <p:cNvPicPr/>
          <p:nvPr/>
        </p:nvPicPr>
        <p:blipFill>
          <a:blip r:embed="rId1"/>
          <a:stretch/>
        </p:blipFill>
        <p:spPr>
          <a:xfrm>
            <a:off x="4038480" y="3733920"/>
            <a:ext cx="51055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of French Revol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laration of Rights of M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poleonic C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ed Nation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nd Empire (except England and Russia – scorched earth polic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ds with limited monarchy and social unrest “When France Sneezes Europe Catches a Cold” – 1848 unre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05320" y="1338120"/>
            <a:ext cx="585720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Mexican Revolution – 1810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Change from imperialism to nationalism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5867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use:  Spanish control over Latin America weakened when Bonaparte defeated, American Revolutionary example, social unrest causes b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comiend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ystem (peninsulares had power, no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stizo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native american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ey Players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dalg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creole priest – stirred up mestizos), Iturbide becomes president forced Spain to sign Treaty of Cordoba, Santa Anna (period of instability in government – “emperor” presiden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59" name="Picture 4" descr="Dh10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372420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6"/>
          <p:cNvSpPr/>
          <p:nvPr/>
        </p:nvSpPr>
        <p:spPr>
          <a:xfrm>
            <a:off x="6629400" y="3809880"/>
            <a:ext cx="2514600" cy="2837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– political freedom from Spain, but not social equality – no Bill of Rights, economics still dominated by European and American mercantalism/cash cro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Bolshevik or “Russian” Revolution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hange autocracy to communism - 1917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uses:  Czar Nicholas II (Romanov) was autocrat – created Duma (legislative body) but disbanded it; helped cause WW1 – but had not supplied troops – massive losses at Battle of Tanneburg Forest to Germans; poverty of people – both as peasant/serfs and newly industrialized peop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History of Loss – Crimean War 1855, Russo-Japanese War 190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lshevik Revolution (cont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20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ey Person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ni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with slogan “Peace, Land &amp; Bread”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/Trotsk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eading Red Guard overthrew government – Marxis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ults:  Nicholas II killed, Lenin signs Treaty of Brest-Litovsk (ceding Poland and northeastern territories to Germany – leaves war), civil war between Whites (republican and non-socialists) and Reds;  introduces “War Communism” (stringent price control, forced labor) – which will lead to famines and depopulation of cities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5" name="Picture 4" descr="Lenin"/>
          <p:cNvPicPr/>
          <p:nvPr/>
        </p:nvPicPr>
        <p:blipFill>
          <a:blip r:embed="rId1"/>
          <a:stretch/>
        </p:blipFill>
        <p:spPr>
          <a:xfrm>
            <a:off x="7238880" y="609480"/>
            <a:ext cx="13464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501360" y="452880"/>
            <a:ext cx="52653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inese Communist Revolu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927-195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us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911 – Sun Yat Sen overthrew Qing dynasty (blaming it for losses in Opium Wa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927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iang Kai-Shek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llowed Sun as leader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uominta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arty – supported nationalism and democratic ideals. Mao Zedong supported by peasants was communis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934 – Chiang forces Mao on a Long March – many communist kill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W2 – unite to fight Jap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8" name="Picture 4" descr="China flag"/>
          <p:cNvPicPr/>
          <p:nvPr/>
        </p:nvPicPr>
        <p:blipFill>
          <a:blip r:embed="rId1"/>
          <a:stretch/>
        </p:blipFill>
        <p:spPr>
          <a:xfrm>
            <a:off x="304920" y="0"/>
            <a:ext cx="300996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of Chinese Revol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o dominates supported by USS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ablishes Cultural Revolution to get rid of opposi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ablishes Great Leap Forward – communes, heavy indus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71" name="Picture 4" descr="maozedon"/>
          <p:cNvPicPr/>
          <p:nvPr/>
        </p:nvPicPr>
        <p:blipFill>
          <a:blip r:embed="rId1"/>
          <a:stretch/>
        </p:blipFill>
        <p:spPr>
          <a:xfrm>
            <a:off x="6858000" y="3733920"/>
            <a:ext cx="1863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ranian Revolution - 1979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uses:  British and Soviets p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ah Reza Pahlav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place to avoid Iran joining Nazis. Shah favored secularization and modernization – used autocratic methods (like Ataturk – forbid eastern clothing, etc.); economics dominated by foreigners like 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ey Terms: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yatollah Khomein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shiite caliph) promoted  reactionary Islamic fundamentalism;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ran Hostage Crisi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Islamic students captured 52 US citizens in Tehran held them for 444 days (turned over on day Reagan came to offic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ults:  established 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lamic Fundamental Sta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Iran – Shariah laws, anti-western philosoph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apse of USSR – 1989/199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use – economic collapse after arms and space race; Gorbachev’s perestroika (limited privatization) and glasnost (freedom of speech – Chernobyl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nts – Fall of Berlin W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ults – Unification of Germany, creation of 15 countries, economic problems for eastern Europe, Eastern European nations want to be part of Nato and E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testant Re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848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17 – Central Europe (Germany – Englan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Map/Still:World distribution of Protestant denominations."/>
          <p:cNvPicPr/>
          <p:nvPr/>
        </p:nvPicPr>
        <p:blipFill>
          <a:blip r:embed="rId1"/>
          <a:stretch/>
        </p:blipFill>
        <p:spPr>
          <a:xfrm>
            <a:off x="1676520" y="2514600"/>
            <a:ext cx="57909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testant Re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aus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decrease power of Catholic Church (crusades failure, rising power of monarchs who angry at Catholic Church’s control – Henry VIII), abuses of church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dulgen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imony, lay investiture, wealth used wrongly), humanism (questioning spiri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Key Play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Martin Luth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95 Theses (vernacular bible); John Calvin – predestination; Gutenberg’s printing 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Resul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ended unity of Christianity, gave rise to movements to end “divine right” concept of kings (enlightenment) and sparked interest in non-Church controlled science (scientific revolu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ommercial Revolution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Change from barter economy to money economy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39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20-1650 –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use:  increase power of middle class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ourgeoisi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and interest in trade (tax for military), urbanization, need for raw materials, competition btw monarc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:  banks,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joint-stock compan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xploration, capitalism,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mercantilis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desiring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avorable balance of tra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th access to bullion or capi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Players: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Medi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Vasco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da Ga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Magellan, Dutch East India Compa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astrolabe"/>
          <p:cNvPicPr/>
          <p:nvPr/>
        </p:nvPicPr>
        <p:blipFill>
          <a:blip r:embed="rId1"/>
          <a:stretch/>
        </p:blipFill>
        <p:spPr>
          <a:xfrm>
            <a:off x="6934320" y="4876920"/>
            <a:ext cx="1415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cientific Revolution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Change – Knowledge based on Church to knowledge based on inquiry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2445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50-1700 (Europe – especially France, Italy and Pola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:  decline of Church as dominating force (Protestant Reformation), Renaissance humanism, increased commercial interests (Age of Exploration and Imperialis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:  new technologies, rise of secularism (created spirit for enlighten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y Players in Scientific Rev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ncis Bacon – Scientific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ernicus – heliocentric model of unive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lileo – proved Copernicus through telescope (charged with heres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salius – studies anatomy through dis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estley – nature of oxygen and g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ton – calculus and laws of mo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painting of universe and scholar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MCj04124640000[1]"/>
          <p:cNvPicPr/>
          <p:nvPr/>
        </p:nvPicPr>
        <p:blipFill>
          <a:blip r:embed="rId1"/>
          <a:stretch/>
        </p:blipFill>
        <p:spPr>
          <a:xfrm>
            <a:off x="3581280" y="1066680"/>
            <a:ext cx="2667240" cy="26193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grarian Revolu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61760" y="2908080"/>
            <a:ext cx="1981440" cy="890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701 – Jethro Tull’s Seed Dri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41360" y="1332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762120" y="3962520"/>
            <a:ext cx="2819160" cy="1066680"/>
          </a:xfrm>
          <a:prstGeom prst="rightArrowCallout">
            <a:avLst>
              <a:gd name="adj1" fmla="val 22687"/>
              <a:gd name="adj2" fmla="val 25000"/>
              <a:gd name="adj3" fmla="val 44049"/>
              <a:gd name="adj4" fmla="val 6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20s G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7"/>
          <p:cNvSpPr/>
          <p:nvPr/>
        </p:nvSpPr>
        <p:spPr>
          <a:xfrm>
            <a:off x="762120" y="1447920"/>
            <a:ext cx="2971800" cy="1218960"/>
          </a:xfrm>
          <a:prstGeom prst="rightArrowCallout">
            <a:avLst>
              <a:gd name="adj1" fmla="val 25002"/>
              <a:gd name="adj2" fmla="val 25000"/>
              <a:gd name="adj3" fmla="val 40633"/>
              <a:gd name="adj4" fmla="val 6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600s Enclosure Mvmt. – by 1700s more popular in Engla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8"/>
          <p:cNvSpPr/>
          <p:nvPr/>
        </p:nvSpPr>
        <p:spPr>
          <a:xfrm>
            <a:off x="762120" y="5334120"/>
            <a:ext cx="2895480" cy="1143000"/>
          </a:xfrm>
          <a:prstGeom prst="rightArrowCallout">
            <a:avLst>
              <a:gd name="adj1" fmla="val 25002"/>
              <a:gd name="adj2" fmla="val 25000"/>
              <a:gd name="adj3" fmla="val 42220"/>
              <a:gd name="adj4" fmla="val 6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730 – Townshend suggest clover for crop rot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9"/>
          <p:cNvSpPr/>
          <p:nvPr/>
        </p:nvSpPr>
        <p:spPr>
          <a:xfrm>
            <a:off x="4724280" y="1600200"/>
            <a:ext cx="4572000" cy="457200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o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0"/>
          <p:cNvSpPr/>
          <p:nvPr/>
        </p:nvSpPr>
        <p:spPr>
          <a:xfrm>
            <a:off x="2743200" y="914400"/>
            <a:ext cx="4495680" cy="2895480"/>
          </a:xfrm>
          <a:prstGeom prst="cloudCallout">
            <a:avLst>
              <a:gd name="adj1" fmla="val 14513"/>
              <a:gd name="adj2" fmla="val 37828"/>
            </a:avLst>
          </a:prstGeom>
          <a:solidFill>
            <a:srgbClr val="33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Landless Farmers – need new job and new home (move to c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ults of Agrarian Revolu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72" name="Content Placeholder 51202"/>
          <p:cNvGrpSpPr/>
          <p:nvPr/>
        </p:nvGrpSpPr>
        <p:grpSpPr>
          <a:xfrm>
            <a:off x="1128600" y="2094120"/>
            <a:ext cx="7602120" cy="3235680"/>
            <a:chOff x="1128600" y="2094120"/>
            <a:chExt cx="7602120" cy="3235680"/>
          </a:xfrm>
        </p:grpSpPr>
        <p:cxnSp>
          <p:nvCxnSpPr>
            <p:cNvPr id="273" name="_s1028"/>
            <p:cNvCxnSpPr>
              <a:stCxn id="274" idx="1"/>
              <a:endCxn id="275" idx="2"/>
            </p:cNvCxnSpPr>
            <p:nvPr/>
          </p:nvCxnSpPr>
          <p:spPr>
            <a:xfrm rot="10800000">
              <a:off x="4453920" y="4485600"/>
              <a:ext cx="283320" cy="5209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76" name="_s1029"/>
            <p:cNvCxnSpPr>
              <a:stCxn id="277" idx="0"/>
              <a:endCxn id="278" idx="2"/>
            </p:cNvCxnSpPr>
            <p:nvPr/>
          </p:nvCxnSpPr>
          <p:spPr>
            <a:xfrm flipH="1" flipV="1" rot="5400000">
              <a:off x="2048040" y="3623760"/>
              <a:ext cx="182520" cy="2880"/>
            </a:xfrm>
            <a:prstGeom prst="bentConnector3">
              <a:avLst>
                <a:gd name="adj1" fmla="val 4960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75" idx="0"/>
              <a:endCxn id="280" idx="2"/>
            </p:cNvCxnSpPr>
            <p:nvPr/>
          </p:nvCxnSpPr>
          <p:spPr>
            <a:xfrm flipH="1" flipV="1" rot="5400000">
              <a:off x="4957920" y="3030120"/>
              <a:ext cx="182520" cy="1189800"/>
            </a:xfrm>
            <a:prstGeom prst="bentConnector3">
              <a:avLst>
                <a:gd name="adj1" fmla="val 4960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1" name="_s1031"/>
            <p:cNvCxnSpPr>
              <a:stCxn id="282" idx="0"/>
              <a:endCxn id="283" idx="2"/>
            </p:cNvCxnSpPr>
            <p:nvPr/>
          </p:nvCxnSpPr>
          <p:spPr>
            <a:xfrm flipH="1" flipV="1" rot="5400000">
              <a:off x="7630920" y="3623760"/>
              <a:ext cx="182520" cy="2520"/>
            </a:xfrm>
            <a:prstGeom prst="bentConnector3">
              <a:avLst>
                <a:gd name="adj1" fmla="val 49604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4" name="_s1032"/>
            <p:cNvCxnSpPr>
              <a:stCxn id="283" idx="0"/>
              <a:endCxn id="285" idx="2"/>
            </p:cNvCxnSpPr>
            <p:nvPr/>
          </p:nvCxnSpPr>
          <p:spPr>
            <a:xfrm flipV="1" rot="16200000">
              <a:off x="6233760" y="1593000"/>
              <a:ext cx="184320" cy="2793960"/>
            </a:xfrm>
            <a:prstGeom prst="bentConnector3">
              <a:avLst>
                <a:gd name="adj1" fmla="val 4990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6" name="_s1033"/>
            <p:cNvCxnSpPr>
              <a:stCxn id="280" idx="0"/>
              <a:endCxn id="285" idx="2"/>
            </p:cNvCxnSpPr>
            <p:nvPr/>
          </p:nvCxnSpPr>
          <p:spPr>
            <a:xfrm flipV="1" rot="16200000">
              <a:off x="5194440" y="2632320"/>
              <a:ext cx="184320" cy="714960"/>
            </a:xfrm>
            <a:prstGeom prst="bentConnector3">
              <a:avLst>
                <a:gd name="adj1" fmla="val 4990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7" name="_s1034"/>
            <p:cNvCxnSpPr>
              <a:stCxn id="278" idx="0"/>
              <a:endCxn id="285" idx="2"/>
            </p:cNvCxnSpPr>
            <p:nvPr/>
          </p:nvCxnSpPr>
          <p:spPr>
            <a:xfrm flipH="1" flipV="1" rot="5400000">
              <a:off x="3442680" y="1595160"/>
              <a:ext cx="184320" cy="2790000"/>
            </a:xfrm>
            <a:prstGeom prst="bentConnector3">
              <a:avLst>
                <a:gd name="adj1" fmla="val 49902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85" name="_s1035"/>
            <p:cNvSpPr/>
            <p:nvPr/>
          </p:nvSpPr>
          <p:spPr>
            <a:xfrm>
              <a:off x="3143880" y="2094120"/>
              <a:ext cx="3574080" cy="79056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Food Surplu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6"/>
            <p:cNvSpPr/>
            <p:nvPr/>
          </p:nvSpPr>
          <p:spPr>
            <a:xfrm>
              <a:off x="1248120" y="3096720"/>
              <a:ext cx="1781640" cy="4219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re Peop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7"/>
            <p:cNvSpPr/>
            <p:nvPr/>
          </p:nvSpPr>
          <p:spPr>
            <a:xfrm>
              <a:off x="4752000" y="3096720"/>
              <a:ext cx="1781640" cy="4219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xcess Capit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038"/>
            <p:cNvSpPr/>
            <p:nvPr/>
          </p:nvSpPr>
          <p:spPr>
            <a:xfrm>
              <a:off x="6831000" y="3096720"/>
              <a:ext cx="1782000" cy="4219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039"/>
            <p:cNvSpPr/>
            <p:nvPr/>
          </p:nvSpPr>
          <p:spPr>
            <a:xfrm>
              <a:off x="6711840" y="3730680"/>
              <a:ext cx="2018880" cy="7405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ew Market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eed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Imperialism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40"/>
            <p:cNvSpPr/>
            <p:nvPr/>
          </p:nvSpPr>
          <p:spPr>
            <a:xfrm>
              <a:off x="3445200" y="3730680"/>
              <a:ext cx="2018880" cy="7405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vest in Invention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1041"/>
            <p:cNvSpPr/>
            <p:nvPr/>
          </p:nvSpPr>
          <p:spPr>
            <a:xfrm>
              <a:off x="1128600" y="3730680"/>
              <a:ext cx="2019240" cy="7405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eed More Stuf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042"/>
            <p:cNvSpPr/>
            <p:nvPr/>
          </p:nvSpPr>
          <p:spPr>
            <a:xfrm>
              <a:off x="4752000" y="4683240"/>
              <a:ext cx="2054520" cy="64656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880" rIns="7488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ise of Bourgeoisi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pitali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3:11:37Z</dcterms:created>
  <dc:creator>Teacher</dc:creator>
  <dc:description/>
  <dc:language>en-US</dc:language>
  <cp:lastModifiedBy>Lyons, Anne</cp:lastModifiedBy>
  <dcterms:modified xsi:type="dcterms:W3CDTF">2013-05-29T14:05:53Z</dcterms:modified>
  <cp:revision>14</cp:revision>
  <dc:subject/>
  <dc:title>Turning Points</dc:title>
</cp:coreProperties>
</file>